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527AA-49A0-4DF6-93B9-90F5BC549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C23D6-F838-4A64-ABC3-32373BAA4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3276C-638D-46E2-B1B8-DD53FADCD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0C891-B958-48B0-9E98-017DC3DA5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A5442-EFE6-446B-986C-56B299996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83CBC-E0B0-4FC7-8268-B9498C998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9B1DD-F5E6-45C9-A026-A7523974D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42C40-5FC6-4012-B46F-9AB6B9A70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BDD2A-88AB-46EA-895D-53E0B27C6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E7800-864C-45FB-8928-088AF2822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5BFB6-9035-4630-8A0B-115D97B81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F357F-8C1D-4DFC-B10D-FE7A1FA73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E2D9-EC52-4F39-8C15-FC89622929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War I - 1920’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ts of WWI</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ied and Central Powers</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ed Powers - France, Russia, United Kingdom, United Sta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Powers - Germany, Austria-Hungary, Ottoman Empire, and Bulg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son’s 14 Points</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a speech given by President Woodrow Wilson. It was intended to ensure the Country that the war was being fought for a moral cause. It later became the basis for the terms of the German surren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y of Versailles</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nded the war between Germany and the Allied Powers. It made Germany accept that they were the cause of the war. It also made them disarm, make substantial territorial loses, and pay reparations to certain countries of the Allied Pow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gue of Nation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ague of Nations is a group of governments formed as a result of the Treaty of Versailles. One of its main goals was preventing war through collective security, and settling disputes between countries through negotiation and diploma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920’s</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32:19Z</dcterms:created>
  <dc:creator>Yarmouth Schools</dc:creator>
  <dc:description/>
  <dc:language>en-US</dc:language>
  <cp:lastModifiedBy>YHS Teacher</cp:lastModifiedBy>
  <dcterms:modified xsi:type="dcterms:W3CDTF">2009-06-12T01:01:09Z</dcterms:modified>
  <cp:revision>6</cp:revision>
  <dc:subject/>
  <dc:title>World War I - 1920’s</dc:title>
</cp:coreProperties>
</file>